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6BB-3C2F-4E7D-9B46-CF7E1909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B3F4-1A12-440F-A943-BD156327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216-BD81-4982-95D4-B8A21EB3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078-F456-4993-9F2C-53FE514E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DC72-ACA1-4256-A15A-471BDAAD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7EE2-940E-4948-817E-8925FED2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B5B0-0DB1-4D76-8D12-A936A158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B7E8-7475-4858-887E-3F91202B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4894-D160-42BA-871E-92D7B039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CA2E-20B2-46DF-B26F-82ED182F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F370-E61A-495B-9A65-DD759D66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B5C-B45A-4CCE-A0D3-ED6C6137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F169-EBAF-4EA7-810A-1EACEA81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F76A-893F-480D-A65F-ABC7BE12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AF3F-8360-46F5-8C62-FB0B9374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FAC6-E4BF-4517-8229-1117784E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29CB-192B-4851-B98C-DE3806B3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AB1-93D3-407E-A660-FD9AE116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9D8-644C-4C0C-8881-0E031EBE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99F-1EFA-4EBD-8BDD-2E3D21E5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C7A-E4E5-4F96-959A-BFD09A5A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991-EF0A-4C5A-B835-65475E7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E59-6457-46FF-9AC6-864F1ECB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F68-9AE9-493A-BBAA-F0B96DD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FB5C-0F6D-495D-AA3E-3B3CA95EAF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6020-8685-43CF-915A-26E5A13ADD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vedor de Dad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stalação e Configura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ão L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4. Configurar o arquivo 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    lexm-db.propert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Edite o arquivo recém cria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exml-db.properties substituind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 usuario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enha do usuário e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string de conexão jdb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600200" y="4495680"/>
            <a:ext cx="6335640" cy="1676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6520" y="525780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509436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5. Configurando os scrip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dite os arquivos install.bat e valid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Unix/Lin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dite os arquivos install.sh e validar.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Atualize a variável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LEXML_HOME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 com o caminho do diretório onde o validador foi instal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. Criar as tabelas no ban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Window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unix/linux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ecute o arquivo instalar.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ga do banco de d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7. Inserir metadados na base de dados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MySQL utilize a partir da sua aplicação de exportação de metadados inserts do tip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`registro_item` (`id_registro_item`, `tx_metadado_xml`, `cd_status`, `cd_validacao` , `ts_registro_gmt`)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LUES('oai:ssinf.senado.gov.br:njur/112321', '$OAI_LEXML', 'N', 'I', UTC_TIMESTAMP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 o banco é Oracle a instrução modifica-se pouc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T INTO registro_item (id_registro_item, tx_metadado_xml, cd_status, cd_validacao , ts_registro_gmt) VALUES('oai:ssinf.senado.gov.br:njur/112321', '$OAI_LEXML', 'N', 'I', sys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bre os 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regra de formação da coluna id_registro_item é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_registro_item := prefixo_oai + "/" + chav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prefixo_oai      := 'oai:' + [orgao + "."] + dominio + ":" + sistema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chave            := identificador_interno  + [ ";" + detalhe]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identificador_interno := é a chave do sistema de origem do registr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EXEMPLO: 'oai:ssinf.senado.gov.br:njur/112321'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N' da coluna cd_status significa que o registro é nov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O valor 'I' da coluna cd_validacao significa que o registro é pendente de validação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s_registro_gmt deve receber sempre a data atual UTC ('2008-08-08 08:08:08') dependendo do horário de verão são 2 ou 3 horas a mais do que o horário oficial de Brasília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A coluna tx_metadado_xml deve receber o arquivo XML com os metadados de acordo com o schema lexml_oai.xsd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Verdana"/>
              </a:rPr>
              <a:t>http://www.lexml.gov.br/sch/oai_lexml.xs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XML de Meta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lexml:LexML xsi:schemaLocation='http://www.lexml.gov.br/oai_lexml http://www.lexml.gov.br/schema/oai_lexml.xsd' xmlns:lexml='http://www.lexml.gov.br/oai_lexml' xmlns:xsi='http://www.w3.org/2001/XMLSchema-instance'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Item formato='text/html' idPublicador='1' tipo='conteudo'&gt;http://www6.senado.gov.br/legislacao/ListaPublicacoes.action?id=223435&lt;/I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Item formato='text/html' idPublicador='1' tipo='metadado'&gt;http://www6.senado.gov.br/legislacao/DetalhaDocumento.action?id=223435&lt;/Ite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DocumentoIndividual&gt;urn:lex:br:federal:decreto:1988-10-14;96969@inicio.vigencia;publicacao;1988-10-17~texto;pt-br&lt;/DocumentoIndividual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Epigrafe&gt;Decreto n&amp;#186; 96.969, de 14 de outubro de 1988&lt;/Epigraf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Ementa&gt;ABRE AOS MINISTERIOS DA AGRICULTURA E DO INTERIOR, EM FAVOR DE DIVERSAS UNIDADES OR&amp;#199;AMENTARIAS, O CREDITO SUPLEMENTAR DE CZ 3.780.083.000,00, PARA REFOR&amp;#199;O DE DOTA&amp;#199;&amp;#213;ES CONSIGNADAS NO VIGENTE OR&amp;#199;AMENTO.&lt;/Ementa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&lt;Relacionamento tipo='publicacao.oficial'&gt;urn:lex:br:imprensa.nacional:publicacao.oficial;diario.oficial.uniao;secao.1:1988-10-17!pag20142&lt;/Relacionamento&gt;&lt;/lexml:LexML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XML de Metadados (Pub. Oficial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lexml:LexML xsi:schemaLocation='http://www.lexml.gov.br/oai_lexml http://www.lexml.gov.br/schema/oai_lexml.xsd' xmlns:lexml='http://www.lexml.gov.br/oai_lexml' xmlns:xsi='http://www.w3.org/2001/XMLSchema-instance'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Item formato='application/pdf' idPublicador='3' tipo='conteudo'&gt;http://www.senado.gov.br/sf/publicacoes/diarios/pdf/CN/2001/04/23042001.pdf&lt;/Item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DocumentoIndividual&gt;urn:lex:br:congresso.nacional:publicacao.oficial;diario.congresso.nacional:2001-04-23&lt;/DocumentoIndividual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&lt;Epigrafe&gt;Di&amp;#225;rio do Congresso Nacional. 23/04/2001.&lt;/Epigrafe&gt;&lt;/lexml:LexML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8. Validando os registros novos no banco de dado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t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validar.bat (se window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h ./validar.sh (se unix/linux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urante o processamento são gerados os arquivos validacao_err.txt e validacao_log.tx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meiro é um relatório dos erros identificados durante a validação e o segundo somente um log dos registros process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tilize o arquivo validacao_err.txt para identificar os registros com er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O Log e os Erros também são registrados no banco de dad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ódu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Validad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Banco de Dados com registro de metad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ograma que valida a estrutura e o perfil dos public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terface WEB OAI-PM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xpõe os metadados utilizando o protocolo OAI-PM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7631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77040" y="0"/>
            <a:ext cx="3666960" cy="579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4876920" cy="1433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8458200" cy="905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0" y="2514600"/>
            <a:ext cx="5410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Arquivo lexml_nbconfig.xml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Perfis dos publicado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13487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WEB – OAI-PM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riar variável de amb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_HOME com o valor do diretório de instalação do valida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piar arquivo oai.war para um container ja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Tomcat, Jetty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OC4J, em bre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idador - Pas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1. Criar conta no banco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2. Obter o arquivo de profi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3. Copiar o arquivo de configur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4. Configurar o arquivo lexm-db.proper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5. Configurar os scripts de validação e instal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6. Criar as tabel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arga dos Meta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7. Inserir metadados na base de d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xecução do Valida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8. Validar os metadados inseri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lação e Configuração do Valid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1. Criando conta no banco de dados e databa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Oracl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exemplo utilizando o sql*plus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connect syste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*digite a senh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CREATE USER lexmluser IDENTIFIED BY lexmlpasswor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DEFAULT TABLESPACE us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TEMPORARY TABLESPACE tem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QUOTA UNLIMITED ON user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SQL&gt; GRANT CONNECT TO lexmluser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ando o Mysql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usuario@localhost&gt;mysql -uroot -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create database lexmldatabas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GRANT ALL PRIVILEGES ON lexmldatabase.* to 'lexmluser'@'localhost' IDENTIFIED BY 'lexmlpassword' WITH GRANT OPTION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Verdana"/>
              </a:rPr>
              <a:t>mysql&gt; FLUSH PRIVILEGES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2. Obtendo o arquivo de pro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 arquivo de profile define as combinações possíveis dos elementos localidade, autoridade e tipo de documento de um publicad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Obs: Na fase de implantação, este arquivo XML será enviado por e-mail a partir do preenchimento da planilha "Perfil Provedor Dados.xls"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7724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39080" cy="367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828960"/>
            <a:ext cx="11153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. Copiar o arquivo de configuração do banco de dad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estiver utilizando Orac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-ORACLE.properties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ara: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e estiver utilizando Mysq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pie o arquivo 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-MYSQL.properties para:</a:t>
            </a:r>
            <a:br>
              <a:rPr sz="2600"/>
            </a:b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exml-db.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aolima</cp:lastModifiedBy>
  <dcterms:modified xsi:type="dcterms:W3CDTF">2008-10-31T10:22:5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